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18.png" ContentType="image/png"/>
  <Override PartName="/ppt/media/image7.jpeg" ContentType="image/jpe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9410-5163-4911-BCFA-3D213BC9C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exposed to diving grade oxygen must be cleaned periodically removing combustible contaminants – periodically is perhaps not quite the right word. There is a requirement f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eaning but additional cleaning may be required between times if the cylinder is exposed to a contaminant – e.g. inadequately filtered 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 narcosis and oxygen toxicity not a problem for ODs but included for awareness for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NOT exceed the MOD for the gas mix – additional consideration for more highly qualified divers. Included for awareness and to make the point that there are further considerations to be taken into account when progressing qualif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8021-DA2F-4829-9316-68198E5CF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03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3720" y="3268800"/>
            <a:ext cx="803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0D7E-91CD-4412-8636-5D0C82042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372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4104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6F38-6FC1-4DF7-926E-647EAB265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0280" y="159984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7200" y="159984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3720" y="326880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0280" y="326880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7200" y="326880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C429-8605-4DE1-92FA-379B3395B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82CA-1079-4980-8258-C596F352AC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23720" y="1599840"/>
            <a:ext cx="8034480" cy="31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7D3D-9C4F-49A9-8C5E-00D2C9FE29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03448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4834-87AA-472A-A4DE-6F3CA9BDEE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7152-1C21-4522-894F-F77A34916E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5954-B3A7-4D02-A267-130733A6AB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04760" y="45684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EB1E2-1825-4654-BA92-C8177B4020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372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87D3-C968-4397-A968-36FA2B5D12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3720" y="1599840"/>
            <a:ext cx="8034480" cy="31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5F22-23DC-4F88-97BB-93A2ACC9D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4104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6865-3225-497C-AA7A-B81E59459D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3720" y="3268800"/>
            <a:ext cx="803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D882-1D31-4366-9D9D-80ECDD9DE9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03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3720" y="3268800"/>
            <a:ext cx="803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D67A-3FF3-42F6-B4ED-B23FDAA8F6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372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4104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2EB9-0BD8-4279-97E6-6DB9BAF7D6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0280" y="159984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57200" y="159984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3720" y="326880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0280" y="326880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57200" y="3268800"/>
            <a:ext cx="2586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E5FD-12AE-4C1E-B75A-186B5F59CE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03448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63AA-AEBD-45BF-99BD-F97A74C7F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7061-1796-4918-A0D5-A5B3F7950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1560-C08E-4D65-86F9-BF069791F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760" y="456840"/>
            <a:ext cx="65530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AFA5-706A-4096-BA82-D86A5BDCA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372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0A74-3927-43D8-8780-F98922B98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41040" y="326880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47D0-2AD0-425E-83D0-DADB97369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441000"/>
            <a:ext cx="655308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41040" y="1599840"/>
            <a:ext cx="39207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3720" y="3268800"/>
            <a:ext cx="803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A426-075F-4A2A-A52C-B5D62118F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3720" y="1599840"/>
            <a:ext cx="8034480" cy="319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074600" indent="-358560">
              <a:lnSpc>
                <a:spcPct val="90000"/>
              </a:lnSpc>
              <a:spcBef>
                <a:spcPts val="1049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3" marL="1611360" indent="-357120">
              <a:lnSpc>
                <a:spcPct val="90000"/>
              </a:lnSpc>
              <a:spcBef>
                <a:spcPts val="1049"/>
              </a:spcBef>
              <a:buClr>
                <a:srgbClr val="993300"/>
              </a:buClr>
              <a:buFont typeface="CommonBullets" charset="2"/>
              <a:buChar char="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4" marL="2079720" indent="-228600">
              <a:lnSpc>
                <a:spcPct val="90000"/>
              </a:lnSpc>
              <a:spcBef>
                <a:spcPts val="104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5" marL="207972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6" marL="207972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6419880"/>
            <a:ext cx="7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NxWksh.</a:t>
            </a:r>
            <a:fld id="{70F8A127-B9A1-44D0-977B-D280C4A1FFFF}" type="slidenum"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11/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© BSAC 20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53320" y="5562720"/>
            <a:ext cx="1217520" cy="1255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240" y="1447920"/>
            <a:ext cx="91407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2240" y="260280"/>
            <a:ext cx="1571400" cy="935280"/>
          </a:xfrm>
          <a:prstGeom prst="rect">
            <a:avLst/>
          </a:prstGeom>
          <a:solidFill>
            <a:srgbClr val="9999ff"/>
          </a:solidFill>
          <a:ln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Nitro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Arial"/>
              </a:rPr>
              <a:t>Diver 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484280"/>
            <a:ext cx="867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38880" y="5052960"/>
            <a:ext cx="1598760" cy="165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42480" y="6391440"/>
            <a:ext cx="971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6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NxWksp.</a:t>
            </a:r>
            <a:fld id="{4DA52A23-3530-4707-89E7-8452B86A2169}" type="slidenum"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11/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600" spc="-1" strike="noStrike">
                <a:solidFill>
                  <a:srgbClr val="3333cc"/>
                </a:solidFill>
                <a:latin typeface="Times New Roman"/>
              </a:rPr>
              <a:t>© BSAC 20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224"/>
              </a:spcBef>
              <a:buClr>
                <a:srgbClr val="993300"/>
              </a:buClr>
              <a:buFont typeface="CommonBulle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76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90720" y="5498640"/>
            <a:ext cx="6991200" cy="113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cc"/>
                </a:solidFill>
                <a:latin typeface="Arial"/>
              </a:rPr>
              <a:t>The Nitrox Workshop</a:t>
            </a: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Ocean Diver Supplementary Train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916360" y="2571840"/>
            <a:ext cx="3311280" cy="26161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777777"/>
            </a:outerShdw>
          </a:effectLst>
        </p:spPr>
      </p:pic>
      <p:grpSp>
        <p:nvGrpSpPr>
          <p:cNvPr id="93" name=""/>
          <p:cNvGrpSpPr/>
          <p:nvPr/>
        </p:nvGrpSpPr>
        <p:grpSpPr>
          <a:xfrm>
            <a:off x="0" y="2276640"/>
            <a:ext cx="9144000" cy="29880"/>
            <a:chOff x="0" y="2276640"/>
            <a:chExt cx="9144000" cy="29880"/>
          </a:xfrm>
        </p:grpSpPr>
        <p:sp>
          <p:nvSpPr>
            <p:cNvPr id="94" name=""/>
            <p:cNvSpPr/>
            <p:nvPr/>
          </p:nvSpPr>
          <p:spPr>
            <a:xfrm>
              <a:off x="0" y="2276640"/>
              <a:ext cx="9140760" cy="14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306520"/>
              <a:ext cx="8675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urface Interval Tabl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3800520" cy="88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urface Interval 3 hour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cond Dive CTC = C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79640" y="2676600"/>
            <a:ext cx="5438880" cy="323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6" name=""/>
          <p:cNvSpPr/>
          <p:nvPr/>
        </p:nvSpPr>
        <p:spPr>
          <a:xfrm>
            <a:off x="2647800" y="4660920"/>
            <a:ext cx="2217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59240" y="3429000"/>
            <a:ext cx="0" cy="681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13320" y="4503600"/>
            <a:ext cx="98424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7D90-4CD9-419F-8F71-5CE426C6DAD8}" type="slidenum">
              <a:t>10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43320" y="1887480"/>
            <a:ext cx="4672080" cy="2635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Planning - dive two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3519360" cy="294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cond Div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ble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 metr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m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face Code = 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Good practice to increase oxygen % for the second div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5221440"/>
            <a:ext cx="494028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46240" y="3807000"/>
            <a:ext cx="1492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749840" y="3809520"/>
            <a:ext cx="1704960" cy="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3800" y="4203720"/>
            <a:ext cx="324000" cy="315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1327-D98C-4E23-BBC5-143A9214AD95}" type="slidenum">
              <a:t>11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Dive Planning - Computer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5894640" cy="454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ive computers can be used in exactly the same way as for diving using air: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the dive, dive the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 of nitrox 32 &amp; nitrox 36 at OD level requires no changes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354960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of the dive planning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354960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of the computer during the d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354960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ess to post dive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ome computers can be programmed for different nitrox mixes: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At OD level keep set to 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mixes, and their implications, are covered during training for higher qualif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73840" y="2325600"/>
            <a:ext cx="2871720" cy="288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7223-794F-46B3-80A6-BA4A201BE8B9}" type="slidenum">
              <a:t>12</a:t>
            </a:fld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 Nitrox Cylind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7720" y="2205000"/>
            <a:ext cx="474192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ifferent labels for 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“Breathing Air” and “Nitro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ylinders used for nitrox usually need to be periodically cleaned &amp; cer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588000" y="1989000"/>
            <a:ext cx="1447920" cy="4392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840200" y="2949480"/>
            <a:ext cx="2062080" cy="120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0600" y="4363920"/>
            <a:ext cx="202248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0743-0556-4D32-AB1C-BBF409E80B09}" type="slidenum">
              <a:t>13</a:t>
            </a:fld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itrox – Practic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8920" y="1500120"/>
            <a:ext cx="7031160" cy="42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eaning of equipmen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2488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ygen supports combus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s and greases must be saf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higher oxygen perce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linders exposed to oxygen must be cleaned either periodically removing combustible contaminants or if the cylinder is knowingly exposed to a contamin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regulators do not require cleaning if used with less than Nitrox 40 (confirm with the manufactur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mergency cylinder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2488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filling with nitrox unless oxygen clea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58280" y="1763640"/>
            <a:ext cx="1238040" cy="37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DD89-6169-4EDB-BB4D-349431E89A9A}" type="slidenum">
              <a:t>14</a:t>
            </a:fld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itrox – Procedur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9160" y="1599840"/>
            <a:ext cx="6406920" cy="31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ercentages must be checked with an oxygen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analyser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before us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llow analyser manufacturer’s guid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lied gas should not vary more th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% from the desired m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ng beyond these conditions requires additional considerations (e.g. MOD adjustme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 cylinders should be clearly marked with oxygen percentage and M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98" b="98"/>
          <a:stretch/>
        </p:blipFill>
        <p:spPr>
          <a:xfrm>
            <a:off x="6807240" y="2879640"/>
            <a:ext cx="2047680" cy="1825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E5AC-8417-43DC-B6FC-F67BF36BB7F9}" type="slidenum">
              <a:t>15</a:t>
            </a:fld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itrox – Using an analyser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4600" y="1749600"/>
            <a:ext cx="1403280" cy="1912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8000" y="1844640"/>
            <a:ext cx="259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55680" indent="-3556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witch on the gas analy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09960" y="4389480"/>
            <a:ext cx="23176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401400" indent="-4014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lowly open the valve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- gas </a:t>
            </a:r>
            <a:r>
              <a:rPr b="1" i="1" lang="en-US" sz="2400" spc="-1" strike="noStrike">
                <a:solidFill>
                  <a:srgbClr val="33cc33"/>
                </a:solidFill>
                <a:latin typeface="Arial"/>
              </a:rPr>
              <a:t>gently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hiss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0" t="0" r="-87" b="67"/>
          <a:stretch/>
        </p:blipFill>
        <p:spPr>
          <a:xfrm>
            <a:off x="534960" y="4336920"/>
            <a:ext cx="1562040" cy="1509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rcRect l="0" t="0" r="82" b="-80"/>
          <a:stretch/>
        </p:blipFill>
        <p:spPr>
          <a:xfrm>
            <a:off x="4995720" y="1892160"/>
            <a:ext cx="1246320" cy="1681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rcRect l="0" t="0" r="65" b="-82"/>
          <a:stretch/>
        </p:blipFill>
        <p:spPr>
          <a:xfrm>
            <a:off x="4897440" y="4189320"/>
            <a:ext cx="1555920" cy="2071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03448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55680" indent="0" algn="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2880" y="4341960"/>
            <a:ext cx="229392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5040" indent="-3650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resent the analyser to the cylinder val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844640"/>
            <a:ext cx="229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65040" indent="-3650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alibration, essential befor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02B0-291F-4A02-AA17-E83B0788EDDF}" type="slidenum">
              <a:t>16</a:t>
            </a:fld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itrox – Analysing a mix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98" b="98"/>
          <a:stretch/>
        </p:blipFill>
        <p:spPr>
          <a:xfrm>
            <a:off x="725400" y="1781280"/>
            <a:ext cx="3108240" cy="2770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181400" y="2185920"/>
            <a:ext cx="36752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5. Take a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6. Record the analysis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B10B-5B0F-4556-9D2A-D1F8C74A0489}" type="slidenum">
              <a:t>17</a:t>
            </a:fld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nalysing essential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8920" y="1614240"/>
            <a:ext cx="8023320" cy="35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alibrate prior to us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eep flow rate even and as low as possibl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rratic readings point towards analyser failur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void windy condi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void moisture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t Ocean Diver level your analysis should b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ithi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% of target mix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tore analyser away from elevated oxygen level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D1C7-B59E-4823-A1CB-B26701B5B428}" type="slidenum">
              <a:t>18</a:t>
            </a:fld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81040" y="1600200"/>
            <a:ext cx="6323040" cy="483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itrox gas composi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Benefits of nitrox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Ocean Diver qualific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imum operating depth of 20 metr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NO-STOP dives o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Oxygen toxicity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ive planning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SAC 88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r (21%) o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quipmen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ylinders labelled with gas % and M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Gas analysi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152" b="136"/>
          <a:stretch/>
        </p:blipFill>
        <p:spPr>
          <a:xfrm>
            <a:off x="6226200" y="4094280"/>
            <a:ext cx="1959120" cy="2193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216480" y="1536840"/>
            <a:ext cx="270036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CF13-E148-465B-9313-CF713507C7D4}" type="slidenum">
              <a:t>19</a:t>
            </a:fld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im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6840" y="2158920"/>
            <a:ext cx="5032080" cy="424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ppreciate the benefits of diving on nitrox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ve safely in open water using nitrox 32 and nitrox 36 for no stop div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lan dives using nitrox with BSAC 88 Tables or air computer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derstand potential equipment implica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derstand the methodology for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nalysing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 blended nitrox mix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580000" y="2276640"/>
            <a:ext cx="3200400" cy="27986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777777"/>
            </a:outerShdw>
          </a:effectLst>
        </p:spPr>
      </p:pic>
      <p:sp>
        <p:nvSpPr>
          <p:cNvPr id="99" name=""/>
          <p:cNvSpPr/>
          <p:nvPr/>
        </p:nvSpPr>
        <p:spPr>
          <a:xfrm>
            <a:off x="366120" y="162864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 enable BSAC Ocean Divers (or similar)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73D5-2E58-4CB5-A95C-154FC8202CF9}" type="slidenum">
              <a:t>2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DF8A-0EFC-49F1-A605-92CDAF4CA39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What is nitrox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85600"/>
            <a:ext cx="6202080" cy="37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 breathing gas usually having more than 21%O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gas composition is defined by the nitrogen and oxygen gas frac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24880" indent="-334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trox 21 (Air) = 21% oxygen + 79% nitr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334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trox 32 = 32% oxygen + 68% nitr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-334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trox 36 = 36% oxygen + 64% nitr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s the percentage of oxygen in the nitrox mix is increased, consequently the percentage of nitrogen is reduced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43600" y="2755800"/>
          <a:ext cx="211464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0" y="2755800"/>
                    <a:ext cx="2114640" cy="192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553160" y="2784600"/>
            <a:ext cx="65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460840" y="1601640"/>
          <a:ext cx="200988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60840" y="1601640"/>
                    <a:ext cx="200988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9C4F-65BD-42FC-978E-EFD9A5486BE7}" type="slidenum">
              <a:t>3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Why nitrox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3680" y="1600200"/>
            <a:ext cx="4829040" cy="433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vantages of nitrox – less nitrogen mea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safety factor when used with air table or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d risk of DC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isadvantages of nitrox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trox divers can still suffer DC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tain equipment must b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dicated to the use of nitro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methods of cylinder filling can expose cylinders to diving grade oxy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ygen toxicity (explained la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16600" y="2789280"/>
            <a:ext cx="3119400" cy="21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4965-434B-48FA-9FB0-5A4990BA2261}" type="slidenum">
              <a:t>4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cean Diver Qualif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9280" y="1600200"/>
            <a:ext cx="4416480" cy="52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 Ocean Diver is allowed to dive to a maximum depth of 20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metr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ticipate only in “No-Stop” dives using Air, Nitrox 32 or Nitrox 36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lan dives using an air table or air compute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r example, an Ocean diver who has not dived in the past 24 hours is able to dive within the illustrated no-stop dive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nvelop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0" b="-46"/>
          <a:stretch/>
        </p:blipFill>
        <p:spPr>
          <a:xfrm>
            <a:off x="4876920" y="1832040"/>
            <a:ext cx="3949560" cy="3668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986360" y="2789280"/>
            <a:ext cx="2054160" cy="13827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8242-1924-4556-9453-31B6693F9D2B}" type="slidenum">
              <a:t>5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xygen Toxicit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0360" y="1985760"/>
            <a:ext cx="8007480" cy="333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xygen can be toxic depending upon: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operating depth (pressure) of the d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ime of exposure at the operating dep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fraction of oxygen in the blended m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ig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or auditory disturb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scular twi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000" indent="-34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vul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Highly unlikely occurrence for Ocean Diver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51920" y="2198520"/>
            <a:ext cx="229608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GB" sz="15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3962-2181-40B4-BE1D-843A9B67682E}" type="slidenum">
              <a:t>6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xygen Toxicit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360" y="1600200"/>
            <a:ext cx="80074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esolu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0280" indent="-351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rt the dive and return to su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reven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0280" indent="-351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mix has a defined “Maximum Operating Depth” (MOD), which exceeds the Ocean Diver depth limit of 20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9360">
              <a:lnSpc>
                <a:spcPct val="90000"/>
              </a:lnSpc>
              <a:spcBef>
                <a:spcPts val="249"/>
              </a:spcBef>
              <a:buClr>
                <a:srgbClr val="008000"/>
              </a:buClr>
              <a:buSzPct val="75000"/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x 32% - 35 metres for NO-STOP d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9360">
              <a:lnSpc>
                <a:spcPct val="90000"/>
              </a:lnSpc>
              <a:spcBef>
                <a:spcPts val="249"/>
              </a:spcBef>
              <a:buClr>
                <a:srgbClr val="008000"/>
              </a:buClr>
              <a:buSzPct val="75000"/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x 36% - 30 metres for NO-STOP d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351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ways analyse the nitrox mix before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351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ways clearly label the cylinder wit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9360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 percen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9360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351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o NOT exceed the MOD for the gas m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279360">
              <a:lnSpc>
                <a:spcPct val="90000"/>
              </a:lnSpc>
              <a:spcBef>
                <a:spcPts val="224"/>
              </a:spcBef>
              <a:buClr>
                <a:srgbClr val="008000"/>
              </a:buClr>
              <a:buFont typeface="CommonBullets" charset="2"/>
              <a:buChar char="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rther considerations need to be understood as the diver progresses through higher levels of tra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BC46-A990-4F63-A5B5-B33BCC3CF49D}" type="slidenum">
              <a:t>7</a:t>
            </a:fld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0" b="-46"/>
          <a:stretch/>
        </p:blipFill>
        <p:spPr>
          <a:xfrm>
            <a:off x="4827600" y="1924200"/>
            <a:ext cx="3949560" cy="3668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BSAC 88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ables - Planning a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o-Stop Dive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0720" y="2600280"/>
            <a:ext cx="4973760" cy="281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ive to 20 m for 30 minut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epth and/or time is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‘in between’ valu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28480" indent="-336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ext greater dep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336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ext longer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urface Code is 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56120" y="3956040"/>
            <a:ext cx="877680" cy="2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30800" y="4199040"/>
            <a:ext cx="1384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3160" y="4273560"/>
            <a:ext cx="1800" cy="9428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59480" y="5332320"/>
            <a:ext cx="371520" cy="189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60D4-014A-4B77-A464-06713CF44BDF}" type="slidenum">
              <a:t>8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ning Two Dive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600" y="2471400"/>
            <a:ext cx="3251160" cy="15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irst Div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0 m for 33 m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47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facing Code = 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44800" y="1641600"/>
            <a:ext cx="4392720" cy="4313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50960" y="4275000"/>
            <a:ext cx="1492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303800" y="4289400"/>
            <a:ext cx="174456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67360" y="5651640"/>
            <a:ext cx="324000" cy="315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1440" y="4425840"/>
            <a:ext cx="0" cy="1127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938D-5FA6-4642-8BA7-51EA7D5BAA79}" type="slidenum">
              <a:t>9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20:01:32Z</dcterms:created>
  <dc:creator>reedj; scarsbrookr</dc:creator>
  <dc:description>V02</dc:description>
  <dc:language>en-US</dc:language>
  <cp:lastModifiedBy>Honeywell</cp:lastModifiedBy>
  <dcterms:modified xsi:type="dcterms:W3CDTF">2007-01-08T17:19:52Z</dcterms:modified>
  <cp:revision>162</cp:revision>
  <dc:subject/>
  <dc:title>BSAC OD Nitrox Workshop </dc:title>
</cp:coreProperties>
</file>